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569-3C91-4C59-8267-E0861B1E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FF3-8FB7-4CA9-AE2A-6157614C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EF4-849D-466C-803C-1EE14CE4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103-73A9-44E3-9E61-E92DC14A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F5A1-4EE7-46C0-B75C-E0698AFD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67B2-279C-4724-BFD6-A053FD3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B71E-1BB8-42C2-8487-E31E87B4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F5FC-1489-42F3-A56F-6739BE7F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EB1B-1A34-4C6F-87F5-243F4334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9A6C-B059-4E6D-BC0A-770A48BF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1DF7-EFFA-4994-9CF0-027CFDC3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C0D-C29B-4B68-A355-489F9D77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4EE8-22F6-4E82-A8CD-F491133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C31E-05F8-44EE-BD09-65EB60CB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C619-C3D7-4776-BF9A-EB3BE11D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7E55-C2E5-4B31-9242-042721A4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0F61-3D2D-4BE9-B326-108D9123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2226-5C9F-43CE-9317-CC03B82D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BFE9-3D14-43FB-8ED2-3ECEB166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A52B-CD70-46D2-98CC-62B6BE6D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845B-0BFA-4CB8-B0F7-FB07D079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91E4-25DE-4DE8-85A4-CAFBC4F3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8CD-7E55-4821-97C0-DAAABFC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2621-6765-4F12-8957-727D73F5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4B6B-9F1D-49DA-968D-B9CD82C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10EC-CC90-4B45-8EF0-05919FA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C9AF-915E-464B-988A-ED0B053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192D-051E-4330-A581-3E0B57A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596A-533B-4378-994B-6D350B75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3CE6-73B5-45E3-A4D4-8201F344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979-E99E-4D06-AA77-B45DB06B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40A-FE07-4378-ADA1-17533E81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2FD-87AA-4C37-A3C7-8E7FFF35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BEE-4193-4BB0-8BAE-DD6D507C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9D2-4B67-4756-A7D0-36F78EB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1C9-E36B-4B2C-B0A9-4656AE9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6E804-0C72-4B8A-AA24-AA8F134DB76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1038E-8BDE-4F33-B8B1-C66F0F290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F9964-260B-4D17-8BDD-29568C878B0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F43CC-2011-4CBA-8B57-44B412400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592AA-DB9C-4146-AF1D-792D14D23F3D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743A5-2553-480C-A6B4-469CFC0B01A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4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Jo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3411360" y="4270320"/>
            <a:ext cx="242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خَبّا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368440" y="600120"/>
            <a:ext cx="40118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3259080" y="452268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خَبّاز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984400" y="636480"/>
            <a:ext cx="33559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3365640" y="4659480"/>
            <a:ext cx="24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نَـجّا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3097080" y="485640"/>
            <a:ext cx="268452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2"/>
          <p:cNvSpPr/>
          <p:nvPr/>
        </p:nvSpPr>
        <p:spPr>
          <a:xfrm>
            <a:off x="2784600" y="4659480"/>
            <a:ext cx="347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ـمَرِّض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978280" y="685800"/>
            <a:ext cx="305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197160" y="4483080"/>
            <a:ext cx="254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دَرِّ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rcRect l="0" t="33347" r="0" b="0"/>
          <a:stretch/>
        </p:blipFill>
        <p:spPr>
          <a:xfrm>
            <a:off x="2405160" y="1246320"/>
            <a:ext cx="4037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860560" y="4483080"/>
            <a:ext cx="2586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دَرِّس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0" t="29528" r="0" b="0"/>
          <a:stretch/>
        </p:blipFill>
        <p:spPr>
          <a:xfrm>
            <a:off x="2157480" y="923760"/>
            <a:ext cx="4376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3138480" y="4513320"/>
            <a:ext cx="28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صَوِّ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rcRect l="0" t="31219" r="0" b="0"/>
          <a:stretch/>
        </p:blipFill>
        <p:spPr>
          <a:xfrm>
            <a:off x="2514600" y="1341360"/>
            <a:ext cx="44514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صَوِّر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rcRect l="0" t="31843" r="0" b="0"/>
          <a:stretch/>
        </p:blipFill>
        <p:spPr>
          <a:xfrm>
            <a:off x="2131920" y="1434960"/>
            <a:ext cx="42624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881440" y="4270320"/>
            <a:ext cx="340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حاسِ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29776" t="0" r="0" b="0"/>
          <a:stretch/>
        </p:blipFill>
        <p:spPr>
          <a:xfrm>
            <a:off x="3165480" y="743040"/>
            <a:ext cx="28432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2876400" y="4621320"/>
            <a:ext cx="33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حاسِب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3268800" y="490680"/>
            <a:ext cx="238752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3122640" y="4543560"/>
            <a:ext cx="310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هَنْدِ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172400" y="32446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ُحاس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427560" y="609480"/>
            <a:ext cx="249552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801880" y="4575240"/>
            <a:ext cx="319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هَنْدِس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801880" y="609480"/>
            <a:ext cx="366228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1:34:55Z</dcterms:created>
  <dc:creator>Jane Wightwick</dc:creator>
  <dc:description/>
  <dc:language>en-US</dc:language>
  <cp:lastModifiedBy>Jane Wightwick</cp:lastModifiedBy>
  <dcterms:modified xsi:type="dcterms:W3CDTF">2014-11-08T13:30:36Z</dcterms:modified>
  <cp:revision>22</cp:revision>
  <dc:subject/>
  <dc:title>Slide 1</dc:title>
</cp:coreProperties>
</file>