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BE9-C0A1-4459-A4A4-0E5C8C67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CB2-4BF8-452A-8584-FE20B5F7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C22-E66C-4EA7-BFE1-BFA69521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75E-D799-482C-89CA-A64E425A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5443-ED22-4341-912E-CD198212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6FF0-3A94-496C-818B-A82B2D04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B28C-8194-4CB1-9C83-A82099EC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8542-36C0-4838-810F-1E4F10F6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B63A-52AE-4825-A7DB-FC6C2F89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F324-07B0-4419-B5E2-D930C516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6F79-B7A1-4C03-9E57-0E39F47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06B-3E0D-4320-94C9-0016CDC4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A25A-541B-424B-87B4-27396D31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E49E-380D-422A-AB7E-3B7459B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2DF7-CEB6-4E8D-8826-3D6F9AB2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0B53-99AF-4D71-92F2-AB88528A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A868-69A6-40A5-9569-06B5C533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277B-AC6A-4A76-BE3B-046C4179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1FE89-94E8-424C-AC2D-5997D0F1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B192A-9F44-4E1E-9F2D-B87A0183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1C91-B62A-41C6-A1D1-627CE430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0DF1-B936-4FA4-A85E-6FAE8CAE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541-40A9-4EB2-A522-E78E8998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F05E-044E-4539-9964-75B76528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E87D-355A-4A0C-A424-ABB0B004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C98B-286B-44BA-AB33-9D1268E4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2882-55D3-4747-B2B8-7AC6524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6E68-9A5C-4FA1-95FE-CF8A6E96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BBEC-21F6-40BB-89E7-7AB0F141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2C93-6F50-4DFB-85A6-5195B72C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078-20A4-4954-9588-8C98B37A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F25-7E2B-4856-A7DE-FA5D77BC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262-9E8F-4FA8-9D1B-9B39146D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9EA-558D-42CD-920E-B25A07E3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1EA-DF35-496F-B7DC-182483EE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F79-C96F-4075-A228-7BC4EC5F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5A794-8FDD-4EEE-A9FF-4F771BFA929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66CD9-D8FE-4BB2-A19B-38092CD76D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7805E-B550-4E51-A9DC-C5DA2A4537F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FF4E8-B78C-458B-83A0-5AA16D1515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236000" y="6451560"/>
            <a:ext cx="1782720" cy="2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684360" y="657360"/>
            <a:ext cx="3600360" cy="540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E4EDC-1D19-4976-BEBB-059941A37138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3B811-47B4-4729-B4EA-9C5E45E79AC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7640" y="1557000"/>
            <a:ext cx="395928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Unit 1:</a:t>
            </a:r>
            <a:br>
              <a:rPr sz="4400"/>
            </a:br>
            <a:r>
              <a:rPr b="1" lang="en-GB" sz="4400" spc="-1" strike="noStrike">
                <a:solidFill>
                  <a:srgbClr val="01adc2"/>
                </a:solidFill>
                <a:latin typeface="Calibri"/>
              </a:rPr>
              <a:t>First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3243240" y="4483080"/>
            <a:ext cx="247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بِنْ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543040" y="1103400"/>
            <a:ext cx="351648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3705120" y="4584600"/>
            <a:ext cx="24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ＭＳ Ｐゴシック"/>
              </a:rPr>
              <a:t>بَيْ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041560" y="669960"/>
            <a:ext cx="4944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"/>
          <p:cNvSpPr/>
          <p:nvPr/>
        </p:nvSpPr>
        <p:spPr>
          <a:xfrm>
            <a:off x="3989520" y="4751280"/>
            <a:ext cx="2003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ＭＳ Ｐゴシック"/>
              </a:rPr>
              <a:t>تِـبْـ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905120" y="1133640"/>
            <a:ext cx="51782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932280" y="4365720"/>
            <a:ext cx="207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ＭＳ Ｐゴシック"/>
              </a:rPr>
              <a:t>بُـن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255760" y="998640"/>
            <a:ext cx="41608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3678120" y="4176720"/>
            <a:ext cx="207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ＭＳ Ｐゴシック"/>
              </a:rPr>
              <a:t>بَـيْـن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706400" y="577800"/>
            <a:ext cx="54849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1:29:05Z</dcterms:created>
  <dc:creator>Jane Wightwick</dc:creator>
  <dc:description/>
  <dc:language>en-US</dc:language>
  <cp:lastModifiedBy>Jane Wightwick</cp:lastModifiedBy>
  <dcterms:modified xsi:type="dcterms:W3CDTF">2014-11-07T09:10:04Z</dcterms:modified>
  <cp:revision>15</cp:revision>
  <dc:subject/>
  <dc:title>Slide 1</dc:title>
</cp:coreProperties>
</file>