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44E-A36C-48E8-85A8-502745A8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6ED-D862-4000-AA6F-8C2FCBA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5B3-914D-425E-B618-70A2CB65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8C5-2D11-4CBA-A445-D7816C85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922-0D44-4D7E-BA07-28531B94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0804-BA5D-454B-8DC3-4BF92B1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338D-E7F5-41E0-A0BD-B1BABE85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5415-7A78-42A1-8344-6D0AE86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E44-683C-484A-AC08-DC7D28F9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EFEB-19C0-4E3A-BD94-017970B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F78-6CC6-4DEB-8005-4E8E78F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DC9-A85C-4CE0-8D83-C223F0A7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D451-A2EA-4A85-9D53-EC4268E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68FB-7230-4E7C-8857-7E77BAF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1FF7-AF6C-4DEA-8C0F-3458AECD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41B1-DBA5-4513-A942-C4BD3107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4B9-0C40-432E-8595-0D487C8A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E106-968A-4879-B3F3-EE69E649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D5F3-56B6-401E-8A70-91B406F1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5228-1BD8-4DB1-94BB-51423E0D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65F9-3F1C-4BCF-B938-B6EFFD44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0547-067F-4548-9AAD-1BDD498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6BE-CF92-486A-8A37-247122E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ED2D-78A3-4DA2-825F-FF083139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B2C3-B613-4954-8A2C-9616701B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97F2-A69A-495E-8240-C824855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762D-68F8-4ED3-B1E2-F26EE92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A07B-5FBE-4994-A76F-EF852D7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A918-EE97-4DC4-B8B9-6B27E443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6FC0-0BC0-4C75-8421-E703B35A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40B-A521-4411-99D4-1D6DC764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648-CDC4-4D1A-A983-8B84FF82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0A1-8F5B-4D6C-BBD8-94C7CE3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8B4-5945-41A1-8F4E-8BA5F52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4CB-B02F-449F-8D7E-CAB86F1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6A8-795F-4B93-B98D-B2B105D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F4E3A-2019-4572-98C2-9215DD33BF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086EA-1F43-404E-B6F7-95DCCF351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5F3B-81BF-4105-A9D6-A3FEBB770E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D5D24-CD33-4FB4-A097-F9DBB072F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6FBB8-0B7D-48F7-B0A1-67124FFD0199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25A65-92A4-4EA9-AF6A-563E7DF60F7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4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Plurals,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ص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054240" y="419040"/>
            <a:ext cx="3125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3259080" y="486576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صُوَ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259080" y="303120"/>
            <a:ext cx="325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289320" y="451332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عُلْ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029040" y="1320840"/>
            <a:ext cx="3060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عُلَ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357200" y="1227240"/>
            <a:ext cx="719640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3289320" y="487980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ُعْ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705040" y="1325520"/>
            <a:ext cx="3873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784600" y="4659480"/>
            <a:ext cx="347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ُعَ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04760" y="1120680"/>
            <a:ext cx="7120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كَلْ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951280" y="1093680"/>
            <a:ext cx="27162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860560" y="4483080"/>
            <a:ext cx="354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كِلا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220920" y="1068480"/>
            <a:ext cx="272736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289320" y="4513320"/>
            <a:ext cx="252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رَجُ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852720" y="465120"/>
            <a:ext cx="13971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876400" y="4621320"/>
            <a:ext cx="33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رِج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22240" y="1084320"/>
            <a:ext cx="73296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411360" y="4270320"/>
            <a:ext cx="24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َمَ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164040" y="1598760"/>
            <a:ext cx="29955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3259080" y="42703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ِم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209680" y="847800"/>
            <a:ext cx="51930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122640" y="4543560"/>
            <a:ext cx="310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َبَ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809800" y="1422360"/>
            <a:ext cx="34178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جِب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7120" y="660240"/>
            <a:ext cx="59072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5:39:39Z</dcterms:created>
  <dc:creator>Jane Wightwick</dc:creator>
  <dc:description/>
  <dc:language>en-US</dc:language>
  <cp:lastModifiedBy>Jane Wightwick</cp:lastModifiedBy>
  <dcterms:modified xsi:type="dcterms:W3CDTF">2014-11-06T15:58:53Z</dcterms:modified>
  <cp:revision>23</cp:revision>
  <dc:subject/>
  <dc:title>Slide 1</dc:title>
</cp:coreProperties>
</file>