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D32B-C859-46D2-928A-2D916E02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55E-152E-4229-8AC0-8387CF52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58F-3046-4069-AE90-940A45CE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FD77-6526-4719-80E3-CD57CF6E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9FB6-66F4-4615-A60A-9D28654D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6D98-484B-4CD4-8B26-70A99371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CB25-9211-4F57-A93B-FE1A45A1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2A67-B11B-4D79-8951-BCFD1DFC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F3B2-071A-41AD-AAFA-11C76241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4E5C-CB71-46F7-839F-0ACC760C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FC71-177D-4A52-AC40-500D85FF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E3A8-A461-4697-B1BD-C38F4EB2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F74D-FFCF-4D6C-8A9F-B7C7D3BB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8085-F21F-4D3C-B630-BFE01EEB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DEEE-86D4-47C9-9CFD-A65A1F0E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FFD9-B873-4097-80DC-CC899B6A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C899-A4B7-4910-83A5-838224B6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779BD-AFD3-4DC7-8BEC-624F235A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827D4-82AC-4891-9091-17EA9F49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5B582-BDF4-4948-9C18-015B90E7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8BFC8-2891-424F-BA4F-80F92764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8D98D-804F-47F8-A079-77355704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887-991F-4F98-9455-3C36802F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14185-1207-4FF7-A30A-0C8426CB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DC0A0-B5BE-444E-A8EF-FF1811FD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9EEDB-6305-43E9-88A7-E83B5617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1D49A-CE30-47D6-8AF6-DB00B375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71B1A-C052-4083-B002-F8BD41B3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2EC81-7B0A-4003-B041-04F86FA9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DF80C-EA5A-471D-8FC2-862D6C81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5AD0-0691-4487-A2FA-84C4EA25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6EA-1201-4898-AD0D-7505D641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8E2-E686-45C3-9AB0-C7574C84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EF2B-F331-450F-A2EE-7CD64139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61B-A617-4DAD-AE46-FCC71D5B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CC3-7A16-4B4B-8ABA-03A73310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ECBF73-87F5-4F5E-82E0-6CDE839180A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95D1D-9212-4AD4-B2F7-1DDCBB97F9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54A8E-E277-47AE-876C-059AC3BCB89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74809-535E-476E-8320-7CA62026F7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0E59F-303E-4054-85B7-B76B749402AE}" type="datetime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60735-A4C4-4C51-95D6-8C83949DE65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7640" y="1557000"/>
            <a:ext cx="395928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Unit 2:</a:t>
            </a:r>
            <a:br>
              <a:rPr sz="4400"/>
            </a:b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87720" y="-20520"/>
            <a:ext cx="4359240" cy="4608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705120" y="4584600"/>
            <a:ext cx="247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ＭＳ Ｐゴシック"/>
              </a:rPr>
              <a:t>زَيْ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2608200" y="747720"/>
            <a:ext cx="4213440" cy="36100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3989520" y="4751280"/>
            <a:ext cx="200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ＭＳ Ｐゴシック"/>
              </a:rPr>
              <a:t>د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2795760" y="376200"/>
            <a:ext cx="3579480" cy="39895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3932280" y="4365720"/>
            <a:ext cx="207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ＭＳ Ｐゴシック"/>
              </a:rPr>
              <a:t>زَيْ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2903400" y="235080"/>
            <a:ext cx="3705480" cy="3703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3678120" y="4176720"/>
            <a:ext cx="207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ＭＳ Ｐゴシック"/>
              </a:rPr>
              <a:t>زَيْنَ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2709720" y="317520"/>
            <a:ext cx="3762360" cy="42037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3754440" y="4686480"/>
            <a:ext cx="194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ＭＳ Ｐゴシック"/>
              </a:rPr>
              <a:t>نادِ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2948040" y="663480"/>
            <a:ext cx="3244680" cy="32450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3765600" y="4327560"/>
            <a:ext cx="172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ＭＳ Ｐゴシック"/>
              </a:rPr>
              <a:t>بَدْ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22:14:45Z</dcterms:created>
  <dc:creator>Jane Wightwick</dc:creator>
  <dc:description/>
  <dc:language>en-US</dc:language>
  <cp:lastModifiedBy>Jane Wightwick</cp:lastModifiedBy>
  <dcterms:modified xsi:type="dcterms:W3CDTF">2014-11-06T11:31:21Z</dcterms:modified>
  <cp:revision>11</cp:revision>
  <dc:subject/>
  <dc:title>Slide 1</dc:title>
</cp:coreProperties>
</file>