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A85-D44A-47FB-9F51-2C084878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FB7-5318-4025-80C6-D609FE29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913-DB97-4FE3-9B51-D573F121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9F8-4DE3-447C-AE64-6F7F120E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E55-82A4-46FD-AF67-6ABD830B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AFF-AD0D-40C2-BB20-91954717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81AB-D55A-4F0A-9323-27CAAF7E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5E2D-EF3F-4DF1-8113-616DE9B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EA9-01A9-43A8-96AA-5CB0B8B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4CDF-B49F-455B-9F67-E3950110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FCDA-2DB1-4A9F-BC69-22ACF305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768-AEB0-4E6F-98EE-47C121E0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414-8058-42B9-8C4F-C0FE9282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B905-DD67-4957-A751-3D048B0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4F8-FB51-4DB2-828C-032B1A5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D8A3-6540-4ED6-8099-0BF37A23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BE28-01E4-48DB-B440-5DE92B67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5ECB-F62B-4FCF-8A39-A05EB12D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6758-0F1D-4C12-8EA4-BD69BFB7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3454-591C-4441-8D1C-950FE9B6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C5A9-7512-45DD-BBFD-B31D558E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CBFC-1668-47F9-B740-97411B6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8B7-9006-4DBA-9E65-92C664F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8A44-1B65-452F-BFD9-2D72E5B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2FD1-BEE6-4351-A8EB-4DBA566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B9324-6A1A-4EE9-92AF-FF2B4F5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FF44-D0BE-4060-B737-515D7EC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F79C-CE82-43BE-8FC8-A828589E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122E-7E4C-4628-909E-EC924FF8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3B26-9A5E-47DD-8693-BA40D793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589-077B-4227-98C5-5597D14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8A3-BB94-4DB6-835D-98EE186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6D0-0CBB-436D-AEA6-641817A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A28-9002-49DA-A89B-92F28E9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E06-1772-4DDD-92E5-B4EAE61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EDC-ECD6-4422-AFE6-9AEC5D8A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ACB64-3F2A-4875-B61F-B2B045F93D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34E98-5F8E-4A93-9BBD-7D85DADA7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7AB6D-6441-4DF6-853E-EBCED0D153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CB93F-ECD4-454B-8CA7-91CF7B4F4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9EA90-0A11-403C-B8E1-18F83B8A1F51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D92CC-6DFF-495A-9C9B-8B2F4CF4E2F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0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In the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طَبَ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403360" y="1646280"/>
            <a:ext cx="4618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3259080" y="457524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َلّ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716200" y="795240"/>
            <a:ext cx="387828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3365640" y="4659480"/>
            <a:ext cx="226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طَبْل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979640" y="326880"/>
            <a:ext cx="49816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2784600" y="4659480"/>
            <a:ext cx="34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اتِـ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922480" y="993600"/>
            <a:ext cx="3252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2784600" y="4659480"/>
            <a:ext cx="34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ِلا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027160" y="701640"/>
            <a:ext cx="4843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َوْ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672000" y="1119240"/>
            <a:ext cx="18208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25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تُفّ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11560" y="1724040"/>
            <a:ext cx="3609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2932200" y="4513320"/>
            <a:ext cx="341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طَماطِ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603520" y="1835280"/>
            <a:ext cx="40352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َنْج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832120" y="1805040"/>
            <a:ext cx="37018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044880" y="4270320"/>
            <a:ext cx="279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ُرْتُق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97200" y="1646280"/>
            <a:ext cx="360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581200" y="4270320"/>
            <a:ext cx="370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َطاطِ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81200" y="1598760"/>
            <a:ext cx="370692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2631960" y="4270320"/>
            <a:ext cx="390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تي-شير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121200" y="851040"/>
            <a:ext cx="2509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صَنْدَ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257480" y="1266840"/>
            <a:ext cx="61322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4:42:22Z</dcterms:created>
  <dc:creator>Jane Wightwick</dc:creator>
  <dc:description/>
  <dc:language>en-US</dc:language>
  <cp:lastModifiedBy>Jane Wightwick</cp:lastModifiedBy>
  <dcterms:modified xsi:type="dcterms:W3CDTF">2014-11-06T15:08:20Z</dcterms:modified>
  <cp:revision>20</cp:revision>
  <dc:subject/>
  <dc:title>Slide 1</dc:title>
</cp:coreProperties>
</file>