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B00-A77D-4CDA-99CE-F1AEC88B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2AB-C4E5-4F36-A378-6645CB0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232-497E-4DAE-AA7A-D1725522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DA3-4F89-4A40-8FE9-3667E57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0637-4994-4E51-B242-5DD4A297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D77A-4869-496D-B0F8-C4D476D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593-E015-4EE0-98CB-7604E822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0C66-C6E1-46FE-8945-3586D2A2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C2F0-6038-4ABE-A03B-6AE1BA9D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9B6-AAB4-41B0-B53D-7335248C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1C89-9DA4-4506-8578-D9AC6C9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30E-934B-438E-9056-BA85A0EA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353-F191-4788-B704-2795F7A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38E-9697-4A6F-BEE9-2013F9F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D850-E955-4BE0-A459-34DB04F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C41-E906-4C87-A595-A0E7BBD4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36C-C2F4-40A3-A4CE-CF8B80CD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522C-82B6-4155-8B3A-386D7EC0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A33A-4AA3-4100-9D61-5C66E01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EE3E-BCEA-4206-AE54-75352E5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543B-AF8A-4D0A-888E-D7D0CFD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FFAC-3578-4487-BD87-C77E2B81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E8A-6B1F-4EEB-800E-35AC4CA1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2742-11BE-4F06-9091-2A7D6603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B77D-FFC3-4B1E-808B-BEAE7FFE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6643-A8D4-4FA1-B1A4-0E9B776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D95A-403A-45F1-9FEE-0F07065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E7C4-8334-4EDC-A01E-77AFCF8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6011-7ADF-4E0F-A649-98401320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7D02-A5C7-470D-968B-A18FF3F2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353-C647-4A4D-A02C-964DBD31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855-6838-4A11-9320-66E99C2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DAB-3149-44E3-B7EC-FF74EDD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97E-FD15-441E-A2A9-E8A72DD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788-C166-4D15-9107-2EFB4AC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F85-933D-4B21-8A26-201CD3A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F8790-4049-4FC2-AEA0-E1564BE644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DEE54-F74B-4B84-A262-8BDE739F3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097F1-AEA7-4B87-AD66-165A6F5009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61046-D3E2-4632-9BC0-FD26EADBB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87209-E338-4E9D-A75E-B96AA4F73308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68C18-6D43-4610-9D9E-CD2629A8C8A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2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At the gro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صاب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556000" y="1127160"/>
            <a:ext cx="394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ُبْن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212920" y="1747800"/>
            <a:ext cx="44276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327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َيْ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730600" y="1682640"/>
            <a:ext cx="441936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631960" y="4879800"/>
            <a:ext cx="35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خُبْ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943360" y="120168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1224000" y="4957920"/>
            <a:ext cx="67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عْجون الأَسن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3654360" y="44280"/>
            <a:ext cx="18097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585880" y="452916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حَلي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367080" y="835200"/>
            <a:ext cx="21718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65120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زَي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765600" y="604800"/>
            <a:ext cx="16653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316160" y="4635360"/>
            <a:ext cx="671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عَصير بُرتُق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359080" y="1193760"/>
            <a:ext cx="46162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1270080" y="4621320"/>
            <a:ext cx="659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مَسْحوق الغَس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23960" y="673200"/>
            <a:ext cx="3689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8:26:10Z</dcterms:created>
  <dc:creator>Jane Wightwick</dc:creator>
  <dc:description/>
  <dc:language>en-US</dc:language>
  <cp:lastModifiedBy>Jane Wightwick</cp:lastModifiedBy>
  <dcterms:modified xsi:type="dcterms:W3CDTF">2014-11-06T15:31:37Z</dcterms:modified>
  <cp:revision>33</cp:revision>
  <dc:subject/>
  <dc:title>Slide 1</dc:title>
</cp:coreProperties>
</file>