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3FB-66EE-47AC-B3FE-29746C12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45C-FF5D-411B-945F-AC8F8E30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D01-CC9B-49D6-9C1B-B93A7C43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07D-0440-455A-AD3E-0C9C12FC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9B14-D064-4496-8FF9-60E5302C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650D-2F5C-44AD-A9D0-00912926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846B-A834-492E-9A19-6A5503EB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8667-28EC-4F1E-BF14-5F4952F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099-AD52-4F41-B9C4-7CF489C4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37BA-70D8-4C41-A360-D7DA7A6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99EB-7E8D-47D6-A4E9-968A594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52A-12D6-4744-8523-F05E8631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BCB-5914-4B9E-A61A-E9E4F8C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DF4A-0E4D-4A13-8AFE-D079E46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04F1-8A45-41F9-8913-A9C62FCD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180E-64F1-4FD4-828E-1A86A9C8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EF7A-4A15-4D54-BBAC-5083F48A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F4E4-BCFB-42DC-8E3D-A1BF20A9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6FCD-528E-4175-9685-984C8831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435C2-AA98-48D0-B70E-CA0FDE39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7C03-218E-41B1-9D74-B996104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5E39-1F7F-496C-9A0A-0F877FDA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943-2F95-4C3D-B6C4-5765E02B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A161-BF0C-40F7-9B20-63A56C51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5A52-4CF5-4E3C-9B53-1C29642C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B01E-F3BC-44FE-B1E6-DC045BF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93FEC-C2B1-4F24-89D0-94BB6D41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7E67-53CD-46CC-AABE-7DFECFD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4B46-C4B0-41AD-B0DE-BB3DD684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709F-AA97-43F4-8E21-28776738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52B-035A-44A8-A7C4-5F50933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155-AC3B-432B-AD2D-67498D95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111-2ED0-4D85-897A-ABEBCBF1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3FF-6984-43E4-9F92-36C8D65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A09-907C-4567-933B-378D2419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C52-BEFC-4D62-A266-EF16F8C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16428-A2B9-4246-888B-6E06E17DD8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F2A0-99DA-4CFA-BE1D-1266CF67F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37B09-32DF-4B61-98B0-F5DCC2429D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55146-8EC5-4239-B6A9-159E1B747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9BD3B-711E-4B4A-892D-79C3F4417DDE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31E3D-29F3-4D55-B7A5-006FF5AD91B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5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Basic ad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سْـوَ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172400" y="32446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ُحاس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590920" y="1519200"/>
            <a:ext cx="337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3259080" y="457524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بْـيَ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2590920" y="1071720"/>
            <a:ext cx="37130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َد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87400" y="1386000"/>
            <a:ext cx="65786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25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َدي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400040" y="1111320"/>
            <a:ext cx="52866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067200" y="4513320"/>
            <a:ext cx="274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َكْسو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540160" y="765000"/>
            <a:ext cx="37940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َلي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878200" y="11224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11360" y="4270320"/>
            <a:ext cx="24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َفي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389320" y="484200"/>
            <a:ext cx="38512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259080" y="42703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ثَقي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575080" y="587520"/>
            <a:ext cx="4617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َمي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2382840" y="523800"/>
            <a:ext cx="4092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َب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589120" y="1006560"/>
            <a:ext cx="34466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8:50:20Z</dcterms:created>
  <dc:creator>Jane Wightwick</dc:creator>
  <dc:description/>
  <dc:language>en-US</dc:language>
  <cp:lastModifiedBy>Jane Wightwick</cp:lastModifiedBy>
  <dcterms:modified xsi:type="dcterms:W3CDTF">2014-11-08T13:31:50Z</dcterms:modified>
  <cp:revision>19</cp:revision>
  <dc:subject/>
  <dc:title>Slide 1</dc:title>
</cp:coreProperties>
</file>