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26F-0BF1-49A3-B657-2CE8C503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F95-5FB0-4C7F-9BB4-D567E1CC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07A-E166-40C1-89BC-96E2FB69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D4F-2E6D-4C0B-9456-A2A40102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CD1-68F7-4DDE-83AE-799AB9F4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2B5-F415-4E2F-97F9-114932E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7844-ADC8-433D-98D3-9AE9D07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CAA6-C3E3-400F-80D6-3E88B6FA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885A-2FEC-4D3E-8C6A-CE69D1F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2164-DF97-46FF-A8EF-4B23973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2C82-00AA-4869-A4F0-A0865DF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7AD-178A-4559-B12C-FDA7814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B159-8B47-46FB-9440-CFD4C266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7229-07CA-47E7-A41D-6CB9B62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4E9-10B1-45F2-B647-81ABD78C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4D44-9FDA-4381-943E-C019B035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8FE-0B22-4969-83F8-98C7F61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013A-9A1A-42C7-A7D9-4ADBF92B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4587-4438-4513-A146-E137019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7355-A483-4E3A-9C95-75A35374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ABA6-97E8-4038-9BFF-206DF3B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5A65-D2C8-41ED-886D-FD1CB4EA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CDC-4948-4CD2-9A51-5CE34A4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A8EA-F3C3-4DA2-9DBA-F6966E9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1AAA8-BBEA-45AB-B694-EA67507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09B6-10E7-4DFC-8C53-59F5951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F04C-BAA3-4435-8EC0-56BFFCB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BFA2-3CFD-43D9-9966-79F4889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397D-20D4-46BB-A456-725B843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851B-3AA0-4EF5-9966-3821909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8DE-01C4-4815-BDA7-8D110CA6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AF2-5495-4B19-8E17-7AC47C9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2EA-8FA2-48CA-ACAB-2E16008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BBF-747F-469E-9F57-F675296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196-F157-4E1B-954E-6BF8E93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ED2-B495-4DB0-882A-24B809E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998DE-29DF-47FE-A466-D2382B92848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CD704-4282-42A7-AA74-8D978266A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90926-6925-43BE-99EB-0DBCA11502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E7F93-6E8B-4613-B508-3C0E3D975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8D88E-4115-4D0F-BD98-1DB4B491BDFF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FC5B2-8AC4-4292-8553-C55C52EF05C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3:</a:t>
            </a:r>
            <a:br>
              <a:rPr sz="4400"/>
            </a:br>
            <a:r>
              <a:rPr b="1" lang="en-US" sz="4400" spc="-1" strike="noStrike">
                <a:solidFill>
                  <a:srgbClr val="01adc2"/>
                </a:solidFill>
                <a:latin typeface="Calibri"/>
              </a:rPr>
              <a:t>Masculine </a:t>
            </a:r>
            <a:br>
              <a:rPr sz="4400"/>
            </a:br>
            <a:r>
              <a:rPr b="1" lang="en-US" sz="4400" spc="-1" strike="noStrike">
                <a:solidFill>
                  <a:srgbClr val="01adc2"/>
                </a:solidFill>
                <a:latin typeface="Calibri"/>
              </a:rPr>
              <a:t>and femin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255760" y="1209600"/>
            <a:ext cx="4783320" cy="1925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611520" y="4270320"/>
            <a:ext cx="212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َيْ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3289320" y="451332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ي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105000" y="1413000"/>
            <a:ext cx="2708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243240" y="4483080"/>
            <a:ext cx="247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ِن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998800" y="1181160"/>
            <a:ext cx="2906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دَجاج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2641680" y="712800"/>
            <a:ext cx="3351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27560" y="4270320"/>
            <a:ext cx="26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حِم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209680" y="399960"/>
            <a:ext cx="412452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411360" y="4270320"/>
            <a:ext cx="24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َري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940120" y="660240"/>
            <a:ext cx="30938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365640" y="4270320"/>
            <a:ext cx="261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نَهْ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994040" y="711360"/>
            <a:ext cx="47847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3259080" y="4270320"/>
            <a:ext cx="2738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زُجاج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3606840" y="461880"/>
            <a:ext cx="15429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1:35:14Z</dcterms:created>
  <dc:creator>Jane Wightwick</dc:creator>
  <dc:description/>
  <dc:language>en-US</dc:language>
  <cp:lastModifiedBy>Jane Wightwick</cp:lastModifiedBy>
  <dcterms:modified xsi:type="dcterms:W3CDTF">2014-11-08T13:29:43Z</dcterms:modified>
  <cp:revision>8</cp:revision>
  <dc:subject/>
  <dc:title>Slide 1</dc:title>
</cp:coreProperties>
</file>