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947C-4AD9-4A46-B3B6-60B2A24DE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0713-C8EE-4FEC-9FEE-9CBA36BB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21C3-CC03-4823-9ABE-CC6E13230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55DD-A17B-443C-ABD2-CD4A278AD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DA77-6CEC-48AD-85AB-6099098AD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0C32-585B-4C06-9F32-F416B2FA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DF63-AC18-4A88-B601-6DF4968D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A305-FB04-4289-82EA-C292A286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D5FB-6036-4887-91C9-1C82F41F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E96C9-B3AF-4466-BE75-A3FA30DE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5C4F-DA42-4A6D-BA28-E2728B8D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C142-5A7B-4CB5-85C8-CC54E6A5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F379E-EA77-4903-9154-B4B2DACF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704D-2ECA-4827-B6DB-F80640D7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5D9D-9D05-4124-A311-8C0AD1F7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B5CD-84AC-4940-A16C-3DCB27CCE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C237-9145-446D-8EB9-42B4D8587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81E4E-C310-48BA-BA71-153FDEB7F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C40E6-24F2-4F9D-B128-98D2DB57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F8B02-8DC6-4EE1-9D41-4C36693C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0C318-B2A2-4101-8D83-19129D04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7B73A-1CD8-47AF-B6BA-6049AB8A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B116-C34E-4103-B97D-DC6E8311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F144D-D401-4782-BA83-E01FE527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62A26-AAD5-402F-A8C1-11F3699D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57EB7-4264-4414-A518-3BFD7FBC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BFDF8-7645-499B-97E8-285838C1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CDF3E-0E3B-408F-B857-08AFA7A2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FD2F3-A70A-4BE4-AE6D-A0C8E03F6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B1963-13B2-4D43-A82C-2943AC7E1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B96B-17F9-4626-A509-68A088B5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8E50-8FF6-4E51-B078-79F23351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99E0-309D-4F8F-8455-7187C2C8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20B5-5ABA-4B64-837F-F1AF9DD2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F2C0-3C14-4BE1-9951-09B5780F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6050-6237-42CF-A757-D424C4BA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ED2D17-FBB5-4452-8A13-B83E4F85ED6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247980-00F0-40DA-B22E-129BBD3C88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7236000" y="6451560"/>
            <a:ext cx="1782720" cy="28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7236000" y="6451560"/>
            <a:ext cx="1782720" cy="289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684360" y="657360"/>
            <a:ext cx="3600360" cy="5408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9A76F5-50C9-4E6F-9BB8-D3B4FB3DCBB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EAF45B-DEA9-4B9B-B658-E799DC1A62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7236000" y="6451560"/>
            <a:ext cx="1782720" cy="289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3"/>
          <a:stretch/>
        </p:blipFill>
        <p:spPr>
          <a:xfrm>
            <a:off x="684360" y="657360"/>
            <a:ext cx="3600360" cy="5408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3D1753-6219-47B3-9247-2991686E3289}" type="datetime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5E31EA-E9AC-40CA-B22A-AA6C2CD59085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27640" y="1557000"/>
            <a:ext cx="3959280" cy="33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1adc2"/>
                </a:solidFill>
                <a:latin typeface="Calibri"/>
              </a:rPr>
              <a:t>Unit 13:</a:t>
            </a:r>
            <a:br>
              <a:rPr sz="4400"/>
            </a:br>
            <a:r>
              <a:rPr b="1" lang="en-GB" sz="4400" spc="-1" strike="noStrike">
                <a:solidFill>
                  <a:srgbClr val="01adc2"/>
                </a:solidFill>
                <a:latin typeface="Calibri"/>
              </a:rPr>
              <a:t>What happened yesterda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2"/>
          <p:cNvSpPr/>
          <p:nvPr/>
        </p:nvSpPr>
        <p:spPr>
          <a:xfrm>
            <a:off x="979560" y="4789440"/>
            <a:ext cx="690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6600" spc="-1" strike="noStrike">
                <a:solidFill>
                  <a:srgbClr val="ff0000"/>
                </a:solidFill>
                <a:latin typeface="Arial"/>
              </a:rPr>
              <a:t>خَرَجْتُ </a:t>
            </a:r>
            <a:r>
              <a:rPr b="0" lang="ar-SA" sz="6600" spc="-1" strike="noStrike">
                <a:solidFill>
                  <a:srgbClr val="000000"/>
                </a:solidFill>
                <a:latin typeface="Arial"/>
              </a:rPr>
              <a:t>من بَيْت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1871640" y="1074600"/>
            <a:ext cx="518148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2"/>
          <p:cNvSpPr/>
          <p:nvPr/>
        </p:nvSpPr>
        <p:spPr>
          <a:xfrm>
            <a:off x="979560" y="4789440"/>
            <a:ext cx="690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6600" spc="-1" strike="noStrike">
                <a:solidFill>
                  <a:srgbClr val="ff0000"/>
                </a:solidFill>
                <a:latin typeface="Arial"/>
              </a:rPr>
              <a:t>ذَهَبْتُ </a:t>
            </a:r>
            <a:r>
              <a:rPr b="0" lang="ar-SA" sz="6600" spc="-1" strike="noStrike">
                <a:solidFill>
                  <a:srgbClr val="000000"/>
                </a:solidFill>
                <a:latin typeface="Arial"/>
              </a:rPr>
              <a:t>إلى مَكْتَب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1062000" y="1143000"/>
            <a:ext cx="673740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2"/>
          <p:cNvSpPr/>
          <p:nvPr/>
        </p:nvSpPr>
        <p:spPr>
          <a:xfrm>
            <a:off x="979560" y="4789440"/>
            <a:ext cx="690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6600" spc="-1" strike="noStrike">
                <a:solidFill>
                  <a:srgbClr val="ff0000"/>
                </a:solidFill>
                <a:latin typeface="Arial"/>
              </a:rPr>
              <a:t>كَتَبْتُ </a:t>
            </a:r>
            <a:r>
              <a:rPr b="0" lang="ar-SA" sz="6600" spc="-1" strike="noStrike">
                <a:solidFill>
                  <a:srgbClr val="000000"/>
                </a:solidFill>
                <a:latin typeface="Arial"/>
              </a:rPr>
              <a:t>خِطابا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2182680" y="666720"/>
            <a:ext cx="488628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2"/>
          <p:cNvSpPr/>
          <p:nvPr/>
        </p:nvSpPr>
        <p:spPr>
          <a:xfrm>
            <a:off x="979560" y="4789440"/>
            <a:ext cx="690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6600" spc="-1" strike="noStrike">
                <a:solidFill>
                  <a:srgbClr val="ff0000"/>
                </a:solidFill>
                <a:latin typeface="Arial"/>
              </a:rPr>
              <a:t>شَرِبْتُ </a:t>
            </a:r>
            <a:r>
              <a:rPr b="0" lang="ar-SA" sz="6600" spc="-1" strike="noStrike">
                <a:solidFill>
                  <a:srgbClr val="000000"/>
                </a:solidFill>
                <a:latin typeface="Arial"/>
              </a:rPr>
              <a:t>فِنْجان قَهْو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2122560" y="803160"/>
            <a:ext cx="48704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2"/>
          <p:cNvSpPr/>
          <p:nvPr/>
        </p:nvSpPr>
        <p:spPr>
          <a:xfrm>
            <a:off x="979560" y="4789440"/>
            <a:ext cx="690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6600" spc="-1" strike="noStrike">
                <a:solidFill>
                  <a:srgbClr val="ff0000"/>
                </a:solidFill>
                <a:latin typeface="Arial"/>
              </a:rPr>
              <a:t>ذَهَبْتُ </a:t>
            </a:r>
            <a:r>
              <a:rPr b="0" lang="ar-SA" sz="6600" spc="-1" strike="noStrike">
                <a:solidFill>
                  <a:srgbClr val="000000"/>
                </a:solidFill>
                <a:latin typeface="Arial"/>
              </a:rPr>
              <a:t>إلى مَطْعَ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934920" y="1295280"/>
            <a:ext cx="684864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2"/>
          <p:cNvSpPr/>
          <p:nvPr/>
        </p:nvSpPr>
        <p:spPr>
          <a:xfrm>
            <a:off x="979560" y="4789440"/>
            <a:ext cx="690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6600" spc="-1" strike="noStrike">
                <a:solidFill>
                  <a:srgbClr val="ff0000"/>
                </a:solidFill>
                <a:latin typeface="Arial"/>
              </a:rPr>
              <a:t>أَكَلْتُ </a:t>
            </a:r>
            <a:r>
              <a:rPr b="0" lang="ar-SA" sz="6600" spc="-1" strike="noStrike">
                <a:solidFill>
                  <a:srgbClr val="000000"/>
                </a:solidFill>
                <a:latin typeface="Arial"/>
              </a:rPr>
              <a:t>سَمَكا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1866960" y="1031760"/>
            <a:ext cx="541476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2"/>
          <p:cNvSpPr/>
          <p:nvPr/>
        </p:nvSpPr>
        <p:spPr>
          <a:xfrm>
            <a:off x="979560" y="4789440"/>
            <a:ext cx="690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6600" spc="-1" strike="noStrike">
                <a:solidFill>
                  <a:srgbClr val="ff0000"/>
                </a:solidFill>
                <a:latin typeface="Arial"/>
              </a:rPr>
              <a:t>رَجَعْتُ </a:t>
            </a:r>
            <a:r>
              <a:rPr b="0" lang="ar-SA" sz="6600" spc="-1" strike="noStrike">
                <a:solidFill>
                  <a:srgbClr val="000000"/>
                </a:solidFill>
                <a:latin typeface="Arial"/>
              </a:rPr>
              <a:t>إلى البَيْ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2448000" y="981000"/>
            <a:ext cx="390204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2"/>
          <p:cNvSpPr/>
          <p:nvPr/>
        </p:nvSpPr>
        <p:spPr>
          <a:xfrm>
            <a:off x="979560" y="4789440"/>
            <a:ext cx="690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6600" spc="-1" strike="noStrike">
                <a:solidFill>
                  <a:srgbClr val="ff0000"/>
                </a:solidFill>
                <a:latin typeface="Arial"/>
              </a:rPr>
              <a:t>سَمِعْتُ </a:t>
            </a:r>
            <a:r>
              <a:rPr b="0" lang="ar-SA" sz="6600" spc="-1" strike="noStrike">
                <a:solidFill>
                  <a:srgbClr val="000000"/>
                </a:solidFill>
                <a:latin typeface="Arial"/>
              </a:rPr>
              <a:t>عَن السَّرِق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351000" y="914400"/>
            <a:ext cx="85485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9:39:23Z</dcterms:created>
  <dc:creator>Jane Wightwick</dc:creator>
  <dc:description/>
  <dc:language>en-US</dc:language>
  <cp:lastModifiedBy>Jane Wightwick</cp:lastModifiedBy>
  <dcterms:modified xsi:type="dcterms:W3CDTF">2014-11-06T15:41:32Z</dcterms:modified>
  <cp:revision>29</cp:revision>
  <dc:subject/>
  <dc:title>Slide 1</dc:title>
</cp:coreProperties>
</file>