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B7E-784E-4EE4-950B-95E76218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31A-DF5A-437B-916E-0273214D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13F-1DEF-44BE-A256-01E6CCF5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16D-61B5-4D6D-B026-29032B9F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DC94-4BDE-4BE2-BE38-7D25C8DF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564A-14BD-46D8-8026-7F6F3D10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0F93-105F-4211-BD25-20345DC4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FA07-434C-40E6-888B-C218779D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DC0D-7E4A-4255-AE0D-0E731292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9D75-2703-43BC-BAA6-6BBB0D4E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7A1B-A303-431C-A1E2-9E19FFED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E6E-5A55-4A5A-89E9-7861F730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B02C-AA57-4705-84CA-8724B3A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0B10-35F5-4F4D-8DFA-F9BD2DDD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B92D-1A5F-44E7-A642-7875F4BA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1E46-D9BA-48E3-B160-744CD863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D068-3E0F-48FA-9165-A1CD7BE3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861B-3021-443F-A6CF-6CFA43EA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153B-79A0-4E7F-BB21-2B13042F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6405A-B48A-4EAD-A230-574BB979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F0B8-4E57-4002-BBAE-A577F9C1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9AFB-F10A-4446-9C89-7E0BEA9C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BB9-28EF-4B75-891E-1BC1CD72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9BDB-58EF-45B0-B768-CDBC4D12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7B7A-3108-4148-9CD1-5BA0A33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777C-ECBE-479F-9FD0-1B3CCA9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0F34-D8ED-4B6D-9682-0D5BB1B4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D373-AE04-42E8-85DD-5DBB693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D7D1-2895-455A-BABD-EF624205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DE59-5A80-4F57-A844-E6B0A7C2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6C23-577E-460F-9F09-4F148D80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30F-3D11-444F-A690-18F8FBC3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F96-997C-492F-B195-C38DB250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CBC-B591-4F4B-9703-A3FAB636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9FA-7C9D-4EFA-A9B5-540D8DA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B3F-C09D-42C4-BB6A-F2E9409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94C9D-5130-4AF8-BE98-56D377A8C3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4B935-E195-4411-A3C9-DE16C9551E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D1EB4-B399-41BE-A32C-2AF375BE2AF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DBEA5-2189-4CB0-AA7E-9E5718E07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5E073-EE52-46BA-AF08-2044BD566A51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47DD4-8A10-411F-BC30-8CEA59C6268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8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School su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3365640" y="4270320"/>
            <a:ext cx="292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رَّس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200400" y="739800"/>
            <a:ext cx="26575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2"/>
          <p:cNvSpPr/>
          <p:nvPr/>
        </p:nvSpPr>
        <p:spPr>
          <a:xfrm>
            <a:off x="1316160" y="4481640"/>
            <a:ext cx="671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تَّربِية الدينيّ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3352680" y="1325520"/>
            <a:ext cx="26290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2766960" y="4483080"/>
            <a:ext cx="354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تاري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448080" y="1066680"/>
            <a:ext cx="19573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239920" y="4483080"/>
            <a:ext cx="469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جُغرافي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003480" y="1193760"/>
            <a:ext cx="2718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2147760" y="4378320"/>
            <a:ext cx="43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إنجِليزيّ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943360" y="1952640"/>
            <a:ext cx="28828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1224000" y="4481640"/>
            <a:ext cx="674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عَرَبيّ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666880" y="1689120"/>
            <a:ext cx="37846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585880" y="452916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رِّياض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3429000" y="582480"/>
            <a:ext cx="20480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2"/>
          <p:cNvSpPr/>
          <p:nvPr/>
        </p:nvSpPr>
        <p:spPr>
          <a:xfrm>
            <a:off x="2570040" y="4651200"/>
            <a:ext cx="433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ـموسيقَ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200400" y="1027080"/>
            <a:ext cx="279576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1316160" y="4481640"/>
            <a:ext cx="671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رِّياضيّ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359080" y="1498680"/>
            <a:ext cx="46162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1270080" y="4408560"/>
            <a:ext cx="64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الكيميا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209680" y="812880"/>
            <a:ext cx="43182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8:26:10Z</dcterms:created>
  <dc:creator>Jane Wightwick</dc:creator>
  <dc:description/>
  <dc:language>en-US</dc:language>
  <cp:lastModifiedBy>Jane Wightwick</cp:lastModifiedBy>
  <dcterms:modified xsi:type="dcterms:W3CDTF">2014-11-08T13:07:51Z</dcterms:modified>
  <cp:revision>34</cp:revision>
  <dc:subject/>
  <dc:title>Slide 1</dc:title>
</cp:coreProperties>
</file>