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355-19A3-4833-83BD-F481CF50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0DF-AD0A-4E7D-B76E-9F078B15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D9E-9C83-4099-8176-FFEAD2B9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301-D50B-4260-967D-FC682F36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BBDE-38A0-412B-BA17-71C3C2CC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55B6-6A74-4EDB-B033-37D68025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B142-C4B2-4270-B822-897E0768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5D92-F966-40A9-B9D8-C5EAA4FF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348F-B954-4DA6-B95B-4F40E76A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D80B-AEE4-4D6E-B242-1ED55BC5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1120-13E7-4BFF-81B1-01139502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DD07-14A3-4DC7-848D-E27914D7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33FA-04D4-46F3-9832-4D476206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1A78-2178-443F-9CF8-F1CFE97F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DF2B-1D59-4C26-85E1-57BC33C0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8954-AEBF-47D0-9002-3F66DEB3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DCAB-F034-4B47-8625-884F7706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7036E-1589-43FD-83B1-FE2B8A30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27977-B6BD-4909-BAD4-EEA1913D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67E8A-01B1-472D-B607-08E29E23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2DB12-C61C-4BC5-A961-86117378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35551-5663-40C5-85F0-6F168F87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7DD-A421-4ED0-B72D-B00929F2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843CA-65F8-4381-BE5D-5F9BF29E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350DA-7FD3-4025-AEC6-51583A23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9AE5E-9908-48C3-9FEE-5350DCE5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50423-6B1F-4C61-B7B5-65861A3D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2D348-9A81-407A-B298-A96BF4BE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28C38-A980-4EFD-9E57-B639237D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2B6B4-658C-4F5E-8BB2-28568348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D03-5678-4005-8BAA-0492612B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7F12-7A57-4A79-9044-A4CA6628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294E-AC8A-40F5-AC9F-2478A725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4A37-D837-4DC3-B8A4-3E638E76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9E0-4F68-49AA-A09E-6A3DD975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749-B442-458B-A5C8-747B4F2D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A060E-6A6B-4E93-BBEF-F4B5BB7266C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CE74D-272C-41F5-8839-034B0EB993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BD7F1D-7072-4436-8B22-0672B65E404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A3DBF-AAA0-4DC4-9CCC-BD0719AB62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765ED-FE34-4A6A-A791-9B4CA14CE24F}" type="datetime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ED50E-27CD-434E-85E9-246A1458F4A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7640" y="1557000"/>
            <a:ext cx="395928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Unit 16:</a:t>
            </a:r>
            <a:br>
              <a:rPr sz="4400"/>
            </a:b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Every 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979560" y="4789440"/>
            <a:ext cx="690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Arial"/>
              </a:rPr>
              <a:t>يَشْرَب</a:t>
            </a:r>
            <a:r>
              <a:rPr b="0" lang="ar-SA" sz="6600" spc="-1" strike="noStrike">
                <a:solidFill>
                  <a:srgbClr val="000000"/>
                </a:solidFill>
                <a:latin typeface="Arial"/>
              </a:rPr>
              <a:t> زُجاجة كول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6253" t="0" r="47945" b="0"/>
          <a:stretch/>
        </p:blipFill>
        <p:spPr>
          <a:xfrm>
            <a:off x="2443320" y="1335240"/>
            <a:ext cx="397656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2"/>
          <p:cNvSpPr/>
          <p:nvPr/>
        </p:nvSpPr>
        <p:spPr>
          <a:xfrm>
            <a:off x="979560" y="4789440"/>
            <a:ext cx="690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Arial"/>
              </a:rPr>
              <a:t>يَلْبَس</a:t>
            </a:r>
            <a:r>
              <a:rPr b="0" lang="ar-SA" sz="6600" spc="-1" strike="noStrike">
                <a:solidFill>
                  <a:srgbClr val="000000"/>
                </a:solidFill>
                <a:latin typeface="Arial"/>
              </a:rPr>
              <a:t> البيجام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rcRect l="45657" t="0" r="6521" b="0"/>
          <a:stretch/>
        </p:blipFill>
        <p:spPr>
          <a:xfrm>
            <a:off x="2590920" y="1368360"/>
            <a:ext cx="38336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979560" y="4789440"/>
            <a:ext cx="690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</a:rPr>
              <a:t>كُلّ يَوم مَـحمود</a:t>
            </a:r>
            <a:r>
              <a:rPr b="0" lang="ar-SA" sz="6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2762280" y="1428840"/>
            <a:ext cx="3619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979560" y="4789440"/>
            <a:ext cx="690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Arial"/>
              </a:rPr>
              <a:t>يَغْسِل</a:t>
            </a:r>
            <a:r>
              <a:rPr b="0" lang="ar-SA" sz="6600" spc="-1" strike="noStrike">
                <a:solidFill>
                  <a:srgbClr val="000000"/>
                </a:solidFill>
                <a:latin typeface="Arial"/>
              </a:rPr>
              <a:t> وَجهه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rcRect l="0" t="0" r="52757" b="0"/>
          <a:stretch/>
        </p:blipFill>
        <p:spPr>
          <a:xfrm>
            <a:off x="2062080" y="1285920"/>
            <a:ext cx="456084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"/>
          <p:cNvSpPr/>
          <p:nvPr/>
        </p:nvSpPr>
        <p:spPr>
          <a:xfrm>
            <a:off x="979560" y="4789440"/>
            <a:ext cx="690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Arial"/>
              </a:rPr>
              <a:t>يَأْكُل</a:t>
            </a:r>
            <a:r>
              <a:rPr b="0" lang="ar-SA" sz="6600" spc="-1" strike="noStrike">
                <a:solidFill>
                  <a:srgbClr val="000000"/>
                </a:solidFill>
                <a:latin typeface="Arial"/>
              </a:rPr>
              <a:t> الإفط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2162160" y="762120"/>
            <a:ext cx="484020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979560" y="4789440"/>
            <a:ext cx="690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Arial"/>
              </a:rPr>
              <a:t>يَخْرُج</a:t>
            </a:r>
            <a:r>
              <a:rPr b="0" lang="ar-SA" sz="6600" spc="-1" strike="noStrike">
                <a:solidFill>
                  <a:srgbClr val="000000"/>
                </a:solidFill>
                <a:latin typeface="Arial"/>
              </a:rPr>
              <a:t> من البَي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2023920" y="762120"/>
            <a:ext cx="48247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979560" y="4789440"/>
            <a:ext cx="6900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Arial"/>
              </a:rPr>
              <a:t>يَذْهَب</a:t>
            </a:r>
            <a:r>
              <a:rPr b="0" lang="ar-SA" sz="6600" spc="-1" strike="noStrike">
                <a:solidFill>
                  <a:srgbClr val="000000"/>
                </a:solidFill>
                <a:latin typeface="Arial"/>
              </a:rPr>
              <a:t> إلى الـمَدرَس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676520" y="539640"/>
            <a:ext cx="57513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979560" y="4789440"/>
            <a:ext cx="690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Arial"/>
              </a:rPr>
              <a:t>يَرْجِع</a:t>
            </a:r>
            <a:r>
              <a:rPr b="0" lang="ar-SA" sz="6600" spc="-1" strike="noStrike">
                <a:solidFill>
                  <a:srgbClr val="000000"/>
                </a:solidFill>
                <a:latin typeface="Arial"/>
              </a:rPr>
              <a:t> من الـمَدرَس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981080" y="727200"/>
            <a:ext cx="486576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2"/>
          <p:cNvSpPr/>
          <p:nvPr/>
        </p:nvSpPr>
        <p:spPr>
          <a:xfrm>
            <a:off x="979560" y="4789440"/>
            <a:ext cx="690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Arial"/>
              </a:rPr>
              <a:t>يَكْتُب</a:t>
            </a:r>
            <a:r>
              <a:rPr b="0" lang="ar-SA" sz="6600" spc="-1" strike="noStrike">
                <a:solidFill>
                  <a:srgbClr val="000000"/>
                </a:solidFill>
                <a:latin typeface="Arial"/>
              </a:rPr>
              <a:t> دُروسه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905120" y="709560"/>
            <a:ext cx="480348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979560" y="4789440"/>
            <a:ext cx="690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Arial"/>
              </a:rPr>
              <a:t>يَأْكُل</a:t>
            </a:r>
            <a:r>
              <a:rPr b="0" lang="ar-SA" sz="6600" spc="-1" strike="noStrike">
                <a:solidFill>
                  <a:srgbClr val="000000"/>
                </a:solidFill>
                <a:latin typeface="Arial"/>
              </a:rPr>
              <a:t> العَشا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862280" y="990720"/>
            <a:ext cx="51181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12:25:49Z</dcterms:created>
  <dc:creator>Jane Wightwick</dc:creator>
  <dc:description/>
  <dc:language>en-US</dc:language>
  <cp:lastModifiedBy>Jane Wightwick</cp:lastModifiedBy>
  <dcterms:modified xsi:type="dcterms:W3CDTF">2014-11-08T16:16:56Z</dcterms:modified>
  <cp:revision>34</cp:revision>
  <dc:subject/>
  <dc:title>Slide 1</dc:title>
</cp:coreProperties>
</file>