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284-08F9-4862-90FC-1E9DB2B4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7A6-DA4C-400D-A42A-0BCE3C5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04F-D7FF-4ADE-ABD4-1DAB320D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C52-4DCB-49D6-85C3-9A7C717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DA1C-7F37-4CD6-AE1E-13C29BFC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FD9-008F-493C-AF91-0344E97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4D4F-5E89-4B2A-8E0B-2565BAF9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D06-C5AF-411D-80BE-7BDCFFA0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9915-AC98-40A7-9546-46E0C3C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E746-E355-465F-8C8A-FA8E3078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1FB2-F5EB-4BDD-B9F3-2CB8F4B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C2A-D939-408C-9A00-B3030FE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C664-D3C3-422B-9DDF-BA60344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4C50-448E-41B1-8FF4-626E907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57EA-5CFA-4526-8FFC-4363753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2B1-4477-4BCB-9593-9ABB141F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105-A75E-47B5-A3A4-D94F258D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89BA-23EF-4894-8700-22C9B7AD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6B38-5DB4-407F-869B-3BEF10F3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7237-F8E7-4AE6-BDE8-2F1235B6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5F12-87B6-49A3-AA0B-493DA83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98EC-0EC8-4576-902C-F8DEC80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768-84F2-466A-B96C-BF1719A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659B-6B70-46A9-9111-F1A34D65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5474-CA2E-400A-97C5-D5C62BB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72AA-CA47-4005-BB18-FE08B13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4441-77E2-46AC-9436-31A8617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6F14-731B-4643-B1FB-265D240E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3F09-8098-4FE7-A807-2E1F955E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6C69-834E-415E-B1C4-65FBE12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2E8-1104-4C9B-A3A3-B3A22670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ADF-D1FF-4D03-A8D5-F82789B7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60F-7213-4663-A0FA-484F940E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2C0-2AB8-499F-B96C-494633E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4A4-BAB1-4B49-B352-9F724B6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C03-5A9F-44EA-B6FE-94F605C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C7CAF-F5FA-47DB-BFEA-CFC3A64795F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C1ADC-FA25-4991-B569-AADDE1930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B391D-F475-4772-ABC6-FD0325A6479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959C1-687E-4901-8E77-6176584CA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855F3-7848-4832-A26A-1FB16BCC098B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F0D20-8227-44C9-8736-BD3F48C7AB2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7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Compari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ثَق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768760" y="730080"/>
            <a:ext cx="41526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2"/>
          <p:cNvSpPr/>
          <p:nvPr/>
        </p:nvSpPr>
        <p:spPr>
          <a:xfrm>
            <a:off x="2600280" y="5079960"/>
            <a:ext cx="36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ثـْقَ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677960" y="1927080"/>
            <a:ext cx="526752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197160" y="4483080"/>
            <a:ext cx="254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طَوي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927600" y="960480"/>
            <a:ext cx="774720" cy="3124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4997520" y="3176640"/>
            <a:ext cx="8683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2860560" y="5294160"/>
            <a:ext cx="29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طْوَ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857760" y="627120"/>
            <a:ext cx="1170000" cy="430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073480" y="1395360"/>
            <a:ext cx="8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2631960" y="4879800"/>
            <a:ext cx="35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قَدي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955960" y="1692360"/>
            <a:ext cx="2994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1224000" y="4957920"/>
            <a:ext cx="67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قْد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062160" y="1414440"/>
            <a:ext cx="290376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585880" y="452916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سَر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585880" y="1616040"/>
            <a:ext cx="40658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3259080" y="465120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سْرَ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97040" y="1622520"/>
            <a:ext cx="57085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1316160" y="4746600"/>
            <a:ext cx="630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رَخي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523960" y="1084320"/>
            <a:ext cx="3687840" cy="3408480"/>
          </a:xfrm>
          <a:prstGeom prst="rect">
            <a:avLst/>
          </a:prstGeom>
          <a:ln w="0">
            <a:noFill/>
          </a:ln>
        </p:spPr>
      </p:pic>
      <p:sp>
        <p:nvSpPr>
          <p:cNvPr id="145" name="12-Point Star 5"/>
          <p:cNvSpPr/>
          <p:nvPr/>
        </p:nvSpPr>
        <p:spPr>
          <a:xfrm>
            <a:off x="5254560" y="3087720"/>
            <a:ext cx="957240" cy="949320"/>
          </a:xfrm>
          <a:prstGeom prst="pie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$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270080" y="4341960"/>
            <a:ext cx="59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أَرْخَ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23960" y="720720"/>
            <a:ext cx="3687840" cy="3409920"/>
          </a:xfrm>
          <a:prstGeom prst="rect">
            <a:avLst/>
          </a:prstGeom>
          <a:ln w="0">
            <a:noFill/>
          </a:ln>
        </p:spPr>
      </p:pic>
      <p:sp>
        <p:nvSpPr>
          <p:cNvPr id="148" name="12-Point Star 5"/>
          <p:cNvSpPr/>
          <p:nvPr/>
        </p:nvSpPr>
        <p:spPr>
          <a:xfrm>
            <a:off x="5016600" y="2878200"/>
            <a:ext cx="955440" cy="950760"/>
          </a:xfrm>
          <a:prstGeom prst="pie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12:38:05Z</dcterms:created>
  <dc:creator>Jane Wightwick</dc:creator>
  <dc:description/>
  <dc:language>en-US</dc:language>
  <cp:lastModifiedBy>Jane Wightwick</cp:lastModifiedBy>
  <dcterms:modified xsi:type="dcterms:W3CDTF">2014-11-08T13:00:11Z</dcterms:modified>
  <cp:revision>40</cp:revision>
  <dc:subject/>
  <dc:title>Slide 1</dc:title>
</cp:coreProperties>
</file>