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4FB-19A8-4C88-8CB0-678B69BB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B55-18E3-4E97-85A4-E771E731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F3F-FD4A-46DB-AF37-FCA56A70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555-6E8D-4358-8EBA-A66A685A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CC40-62EB-4C5E-A64C-B761B26A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B0D0-F6E9-4860-B431-2E87B8D3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1048-9D92-45D2-BC31-2C30E379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AB50-D8AE-4DE2-A7FF-04E8C0DE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1C32-9380-406D-9713-E6A368E0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D17C-A9E4-4660-8D8C-88428CBC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72B9-6CF0-4C5F-BFCF-6A94C30B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03A-628D-46BC-A66B-0D709C8C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8E93-BDEF-4EB3-8ED4-3331CC18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63F8-C083-47F1-9556-A728FC1E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E173-1080-492C-9A41-9CFBBB71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7CF9-E297-4F15-B668-814E31A0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6156-7B85-41D9-AD8C-988E3F5B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45A9A-E0B8-47AE-8F60-E506FB53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D03CA-1634-4351-9F78-23DA4357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C9AB-627E-40B7-878E-0643A1B4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D5DB-A842-4A4D-843B-474D489F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24CF1-DAD8-49DB-92D0-77769F8B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AAF-FB43-4833-9E74-A596EA9A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B12AB-43CA-45EA-8C32-EA6D32FD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DD831-3AF5-4769-AF1C-E8A1ACCC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0EE9-A2CD-412C-9276-0AA6B613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7A6F-F9D8-4272-9C43-C9B1DDC3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1D56B-4803-48A5-8A77-194F0C2B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00D6-C9BF-4831-A89E-662C9A6E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65D28-C413-459E-A46E-FFD692D6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4A8-ABBB-44DD-BAC9-EFA6D757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020-7E49-47F1-98F2-FA3FBE28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B7F-5076-44EF-8887-6226E27E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63F-9BAC-41B2-9B34-E477CEEF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445-37EC-49D4-87D6-7769E336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3C6-B922-461F-BFA4-CCA51116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EF2E5-3EE8-49E3-8864-293BF57A127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AB410-EB79-47A4-8CFF-B988E2DFD3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12461-BBFB-4825-BEA5-4A2540FCE8F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8E1DF-6C9D-4717-991D-BB3708B9A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3E69A-5E51-4EBA-A41A-FD5C64DED63F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F3F7D-457A-489D-947B-42C9A344A68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395928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Unit 19:</a:t>
            </a:r>
            <a:br>
              <a:rPr sz="4400"/>
            </a:b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Months of </a:t>
            </a:r>
            <a:br>
              <a:rPr sz="4400"/>
            </a:b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the y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2766960" y="4483080"/>
            <a:ext cx="354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سِبتَمبِ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321000" y="1457280"/>
            <a:ext cx="260496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2"/>
          <p:cNvSpPr/>
          <p:nvPr/>
        </p:nvSpPr>
        <p:spPr>
          <a:xfrm>
            <a:off x="2766960" y="4483080"/>
            <a:ext cx="354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أُكتوبِ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3321000" y="1500120"/>
            <a:ext cx="26049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2766960" y="4483080"/>
            <a:ext cx="354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نوفَمبِ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3321000" y="1504800"/>
            <a:ext cx="260496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2"/>
          <p:cNvSpPr/>
          <p:nvPr/>
        </p:nvSpPr>
        <p:spPr>
          <a:xfrm>
            <a:off x="2766960" y="4483080"/>
            <a:ext cx="354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ديسَمبِ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3321000" y="1523880"/>
            <a:ext cx="260496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2766960" y="4483080"/>
            <a:ext cx="354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يَنايِ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321000" y="1415880"/>
            <a:ext cx="26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766960" y="4483080"/>
            <a:ext cx="354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َبرايِ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321000" y="1415880"/>
            <a:ext cx="2604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2766960" y="4483080"/>
            <a:ext cx="354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ارِ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3321000" y="1512720"/>
            <a:ext cx="26049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2766960" y="4483080"/>
            <a:ext cx="354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أَبري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3321000" y="1523880"/>
            <a:ext cx="260496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2766960" y="4483080"/>
            <a:ext cx="354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اي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3321000" y="1519200"/>
            <a:ext cx="26049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2766960" y="4483080"/>
            <a:ext cx="354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يوني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3321000" y="1508040"/>
            <a:ext cx="260496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2766960" y="4483080"/>
            <a:ext cx="354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يولي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321000" y="1500120"/>
            <a:ext cx="26049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766960" y="4483080"/>
            <a:ext cx="354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أَغُسْطُ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321000" y="1504800"/>
            <a:ext cx="260496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13:09:12Z</dcterms:created>
  <dc:creator>Jane Wightwick</dc:creator>
  <dc:description/>
  <dc:language>en-US</dc:language>
  <cp:lastModifiedBy>Jane Wightwick</cp:lastModifiedBy>
  <dcterms:modified xsi:type="dcterms:W3CDTF">2014-11-08T13:25:54Z</dcterms:modified>
  <cp:revision>37</cp:revision>
  <dc:subject/>
  <dc:title>Slide 1</dc:title>
</cp:coreProperties>
</file>