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DB8A-DFA7-4C64-9C83-6FEB9164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C485-0F34-40EE-9577-5472BD2D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3A49-07B9-4A88-B2E4-8FEEC85C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BED8-3986-4F7D-AA66-B8FF9B7E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2079-35BB-402D-A7B3-E23B0337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10EF-5816-480E-B34B-6B1EF764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3FAF-1A20-42BF-968E-C3BB197E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9545-A989-4404-8292-37801E43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4AEA-F29C-49DC-A63A-28BCFC91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9433-34E5-4BB4-A027-9772AA0A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85A3-2A96-440A-9C49-FA57C95A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9102-5545-4596-B440-0A57C7AA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302D-CE49-4B7F-8B88-9CA00C7D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2906-6921-4348-BE28-0DCCE513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CCC1-584F-42E0-92F0-BC0B3B68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3CA7-8B46-490B-A7F1-91168463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FC3B-D2AD-4FCA-8D3E-1B8221F7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EE8BB-8FE5-41A3-960C-1D49198A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9D27B-580D-4429-B95D-5D13C117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A76CF-DDC1-4719-A839-1AC03E92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606B7-B1E6-4EE0-87F1-A34AA1D7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68C00-6EDD-4223-9881-1F9D1783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B65-5565-4BC1-80A2-B3055CF7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E93F1-8C3F-4935-8AAE-5BBE1F7E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D89AD-F225-49BA-95B5-DD89EADF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2A55E-0FF9-42DC-BFB9-F742523D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5F860-C0B6-41E0-872F-ED630F86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A10FC-187C-4256-B707-208E4FD1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CE840-CAD6-424E-8141-9A8585C5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D85CA-F9B8-4148-BFDB-837721A7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A307-F130-4865-916C-936E66BC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108-FBAB-4164-9434-74D52108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FBB-EB1F-4B78-93BE-B846E564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8F20-4AD2-4B91-9EBC-130BC0D8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3A70-83FF-4C6B-BFB7-3D376C6D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76FE-CC95-4F6B-8A17-F133DC15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1212F-1263-453B-ADB4-803A62A0FE9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BC946-E7EB-4164-9022-F63817416A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23909-4807-4E8B-9DE0-BF0C7F3C07E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301F92-D6AE-4D0B-AB8F-9512BA4BB7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45E91-D3C0-49F2-B748-D83EE3B567EC}" type="datetime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2A91C-3E19-4D0B-92B9-AFE73AEDF9B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7640" y="1557000"/>
            <a:ext cx="395928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Unit 9:</a:t>
            </a:r>
            <a:br>
              <a:rPr sz="4400"/>
            </a:b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Arab coun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3365640" y="4270320"/>
            <a:ext cx="292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عُم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oman-flag-182-p.jpg"/>
          <p:cNvPicPr/>
          <p:nvPr/>
        </p:nvPicPr>
        <p:blipFill>
          <a:blip r:embed="rId1"/>
          <a:stretch/>
        </p:blipFill>
        <p:spPr>
          <a:xfrm>
            <a:off x="1933560" y="547560"/>
            <a:ext cx="551664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2"/>
          <p:cNvSpPr/>
          <p:nvPr/>
        </p:nvSpPr>
        <p:spPr>
          <a:xfrm>
            <a:off x="2523960" y="4621320"/>
            <a:ext cx="449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اليَمَ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279520" y="882720"/>
            <a:ext cx="50180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3197160" y="4483080"/>
            <a:ext cx="254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ليـبـي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libyan-republic-libya-1951-1969-flag-3724-p.gif"/>
          <p:cNvPicPr/>
          <p:nvPr/>
        </p:nvPicPr>
        <p:blipFill>
          <a:blip r:embed="rId1"/>
          <a:stretch/>
        </p:blipFill>
        <p:spPr>
          <a:xfrm>
            <a:off x="2039760" y="838080"/>
            <a:ext cx="50752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2860560" y="4483080"/>
            <a:ext cx="327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مِصْ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egypt-flag-93-p.jpg"/>
          <p:cNvPicPr/>
          <p:nvPr/>
        </p:nvPicPr>
        <p:blipFill>
          <a:blip r:embed="rId1"/>
          <a:stretch/>
        </p:blipFill>
        <p:spPr>
          <a:xfrm>
            <a:off x="1973160" y="892080"/>
            <a:ext cx="53406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"/>
          <p:cNvSpPr/>
          <p:nvPr/>
        </p:nvSpPr>
        <p:spPr>
          <a:xfrm>
            <a:off x="2631960" y="4879800"/>
            <a:ext cx="413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السود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sudan-flag-227-p.jpg"/>
          <p:cNvPicPr/>
          <p:nvPr/>
        </p:nvPicPr>
        <p:blipFill>
          <a:blip r:embed="rId1"/>
          <a:stretch/>
        </p:blipFill>
        <p:spPr>
          <a:xfrm>
            <a:off x="1959120" y="1127160"/>
            <a:ext cx="547992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2876400" y="4621320"/>
            <a:ext cx="33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الأُرْدُن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jordan-flag-135-p.jpg"/>
          <p:cNvPicPr/>
          <p:nvPr/>
        </p:nvPicPr>
        <p:blipFill>
          <a:blip r:embed="rId1"/>
          <a:stretch/>
        </p:blipFill>
        <p:spPr>
          <a:xfrm>
            <a:off x="1735200" y="595440"/>
            <a:ext cx="557856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2585880" y="452916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لُـبْن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lebanon-flag-145-p-1.jpg"/>
          <p:cNvPicPr/>
          <p:nvPr/>
        </p:nvPicPr>
        <p:blipFill>
          <a:blip r:embed="rId1"/>
          <a:stretch/>
        </p:blipFill>
        <p:spPr>
          <a:xfrm>
            <a:off x="2057400" y="519120"/>
            <a:ext cx="52563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2"/>
          <p:cNvSpPr/>
          <p:nvPr/>
        </p:nvSpPr>
        <p:spPr>
          <a:xfrm>
            <a:off x="3259080" y="4270320"/>
            <a:ext cx="273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سوري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syria-flag-232-p.jpg"/>
          <p:cNvPicPr/>
          <p:nvPr/>
        </p:nvPicPr>
        <p:blipFill>
          <a:blip r:embed="rId1"/>
          <a:stretch/>
        </p:blipFill>
        <p:spPr>
          <a:xfrm>
            <a:off x="1679400" y="600120"/>
            <a:ext cx="58644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2"/>
          <p:cNvSpPr/>
          <p:nvPr/>
        </p:nvSpPr>
        <p:spPr>
          <a:xfrm>
            <a:off x="3365640" y="4821120"/>
            <a:ext cx="266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العِرا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NewIraq.jpg"/>
          <p:cNvPicPr/>
          <p:nvPr/>
        </p:nvPicPr>
        <p:blipFill>
          <a:blip r:embed="rId1"/>
          <a:stretch/>
        </p:blipFill>
        <p:spPr>
          <a:xfrm>
            <a:off x="2028960" y="888840"/>
            <a:ext cx="544176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2523960" y="4621320"/>
            <a:ext cx="3918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السَّعوديّ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saudi-arabia-flag-215-p.jpg"/>
          <p:cNvPicPr/>
          <p:nvPr/>
        </p:nvPicPr>
        <p:blipFill>
          <a:blip r:embed="rId1"/>
          <a:stretch/>
        </p:blipFill>
        <p:spPr>
          <a:xfrm>
            <a:off x="1689120" y="625320"/>
            <a:ext cx="568656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0:08:35Z</dcterms:created>
  <dc:creator>Jane Wightwick</dc:creator>
  <dc:description/>
  <dc:language>en-US</dc:language>
  <cp:lastModifiedBy>Jane Wightwick</cp:lastModifiedBy>
  <dcterms:modified xsi:type="dcterms:W3CDTF">2014-11-08T13:35:05Z</dcterms:modified>
  <cp:revision>27</cp:revision>
  <dc:subject/>
  <dc:title>Slide 1</dc:title>
</cp:coreProperties>
</file>