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25D0-BF85-453E-9E3B-45E771E1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048C-F655-4744-A6FF-7F978AC6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8120-1871-414F-8D1B-08DA6962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E3CA-C1D6-422E-916A-E6ED8781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382F-783F-4AEC-8E4C-27703467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9C23-4658-40BB-AF62-476EF903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38DC-C68E-4264-BBFF-68A2787C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59DC-B078-4E97-B9FE-436D17CC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32D6-C517-4145-814C-D83CFF97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4786-24B4-4989-A8C8-1C0AF0F3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310A-44BC-412A-BDC9-19FD0CDA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36F4-2257-4E8D-8D47-0398EF8A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481B-EEAF-4E83-852A-8DC2D590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3641-5111-46BC-B492-D869CB62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8497-6F82-4F3C-9AFF-FD410111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AEE5-254E-4346-AD5F-2F3F8A655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2B94-6267-42B1-AD73-4B2D4CE2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28C80-AD7A-4934-8079-56274E2F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74741-A06A-4366-A166-FF690102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BB034-7039-4435-8F2B-A77F8748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209B0-F1BD-46A9-A8DC-3C04B7BB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8E568-0948-4C79-9C78-C74B19F9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0423-DF06-4DAA-BCDD-B92AC9C4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738ED-33DF-4166-B29A-62D447CF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147F1-13C1-46C7-869C-AA9175D0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1D4B5-8FA1-421E-8002-E6804C33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27D47-041C-4789-A4F8-A8F505FA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22F63-41CF-4504-B9B9-7589AEF2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EF069-BEC5-41CB-9FC0-109AF536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F4642-ED45-4D10-9E7C-0262210B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1092-CDE9-454B-9577-70A0F893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D836-9100-463D-BA84-A14312D5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F918-93CE-4652-A276-DFD39EA8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45EB-A73C-4DD9-B2AC-3A9E80C1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F2EB-7DA1-463C-99E0-82AC4763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A8DB-B2F9-407D-A415-F44250BD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0D291D-19EB-4722-9EB1-EBDED12C811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2826C5-93F9-44A4-BF7D-A231E4CB15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684360" y="657360"/>
            <a:ext cx="3600360" cy="5408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66B2EB-70BE-441F-AD40-4F318439843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1BA1EC-6352-4CAB-B5BD-602403343B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684360" y="657360"/>
            <a:ext cx="3600360" cy="5408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9223E9-549C-4A86-96CE-28ED5A2FAA0A}" type="datetime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01D889-862F-41A1-BA6D-A7971F2931B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7640" y="1557000"/>
            <a:ext cx="395928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1adc2"/>
                </a:solidFill>
                <a:latin typeface="Calibri"/>
              </a:rPr>
              <a:t>Unit 6:</a:t>
            </a:r>
            <a:br>
              <a:rPr sz="4400"/>
            </a:br>
            <a:r>
              <a:rPr b="1" lang="en-GB" sz="4400" spc="-1" strike="noStrike">
                <a:solidFill>
                  <a:srgbClr val="01adc2"/>
                </a:solidFill>
                <a:latin typeface="Calibri"/>
              </a:rPr>
              <a:t>Furniture and 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3122640" y="4543560"/>
            <a:ext cx="310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عَل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630440" y="2103480"/>
            <a:ext cx="59626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2"/>
          <p:cNvSpPr/>
          <p:nvPr/>
        </p:nvSpPr>
        <p:spPr>
          <a:xfrm>
            <a:off x="3259080" y="4575240"/>
            <a:ext cx="273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تَـحْت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989000" y="1055520"/>
            <a:ext cx="50421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2"/>
          <p:cNvSpPr/>
          <p:nvPr/>
        </p:nvSpPr>
        <p:spPr>
          <a:xfrm>
            <a:off x="3365640" y="4659480"/>
            <a:ext cx="249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ف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2597040" y="811080"/>
            <a:ext cx="42973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2"/>
          <p:cNvSpPr/>
          <p:nvPr/>
        </p:nvSpPr>
        <p:spPr>
          <a:xfrm>
            <a:off x="2784600" y="4659480"/>
            <a:ext cx="347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بَيْـن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695600" y="874800"/>
            <a:ext cx="56019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2"/>
          <p:cNvSpPr/>
          <p:nvPr/>
        </p:nvSpPr>
        <p:spPr>
          <a:xfrm>
            <a:off x="2800440" y="4659480"/>
            <a:ext cx="30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بِجانِ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2332080" y="568440"/>
            <a:ext cx="43545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2"/>
          <p:cNvSpPr/>
          <p:nvPr/>
        </p:nvSpPr>
        <p:spPr>
          <a:xfrm>
            <a:off x="2784600" y="4659480"/>
            <a:ext cx="347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فَوْق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2062080" y="671400"/>
            <a:ext cx="494208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3197160" y="4483080"/>
            <a:ext cx="254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با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2432160" y="1224000"/>
            <a:ext cx="3887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2860560" y="4483080"/>
            <a:ext cx="258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سَري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717560" y="947880"/>
            <a:ext cx="52437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"/>
          <p:cNvSpPr/>
          <p:nvPr/>
        </p:nvSpPr>
        <p:spPr>
          <a:xfrm>
            <a:off x="2695680" y="4513320"/>
            <a:ext cx="311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كُرْسي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2901960" y="587520"/>
            <a:ext cx="3348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2540160" y="4621320"/>
            <a:ext cx="365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مائِد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2292480" y="1200240"/>
            <a:ext cx="460836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3411360" y="4533840"/>
            <a:ext cx="2426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خَزّان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779560" y="677880"/>
            <a:ext cx="347040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2"/>
          <p:cNvSpPr/>
          <p:nvPr/>
        </p:nvSpPr>
        <p:spPr>
          <a:xfrm>
            <a:off x="3259080" y="4270320"/>
            <a:ext cx="273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صور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3075120" y="571680"/>
            <a:ext cx="287784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2"/>
          <p:cNvSpPr/>
          <p:nvPr/>
        </p:nvSpPr>
        <p:spPr>
          <a:xfrm>
            <a:off x="2846520" y="4398840"/>
            <a:ext cx="344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شُبّا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2565360" y="836640"/>
            <a:ext cx="39816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2876400" y="4621320"/>
            <a:ext cx="331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تِليفِزْي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2876400" y="493560"/>
            <a:ext cx="3764160" cy="36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09:51:35Z</dcterms:created>
  <dc:creator>Jane Wightwick</dc:creator>
  <dc:description/>
  <dc:language>en-US</dc:language>
  <cp:lastModifiedBy>Jane Wightwick</cp:lastModifiedBy>
  <dcterms:modified xsi:type="dcterms:W3CDTF">2014-11-08T13:32:59Z</dcterms:modified>
  <cp:revision>23</cp:revision>
  <dc:subject/>
  <dc:title>Slide 1</dc:title>
</cp:coreProperties>
</file>